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1535-E393-435D-8677-6A6D67572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E3D7-D3B5-4A45-BCCF-373802028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96E7-0164-4E9F-92DC-44F64CF9A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0C71-7A84-4675-8F1C-FC8BAB503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785-2BDB-4B4B-A842-2038DA6F9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69F0-C406-4CC1-8A78-C8891B2C4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BD82-BD81-4EFD-A3AE-19E5A4AC1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D048-CF67-4492-A502-A7058A66B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D4D9-F20A-44DB-8A17-2D4D69594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594E-13EB-45C6-A494-3C154E610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6AA2-67D6-4E24-9795-4CE52EF52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62F6-A80D-4B5E-8309-6A4CB589C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491F-0334-4F2A-AACB-C9D697828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B39D-156F-43A8-9EBC-3A2DACA87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DC26-2082-4BD5-9E5B-713F0BE82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E8C4-4087-468E-B67F-8398F0D0B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9877-7C60-42ED-BA22-B58146031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59F1-1CE2-45DD-835D-68981F314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CC2D-11EB-45E1-B963-6F874DD6D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2841-A6D6-496F-A728-58D9F54BB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F21D-B2A1-461D-BD79-BAA7B0FA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FA6D-85B0-4DC0-AA01-A1C33A468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7080-95EE-4EB6-AA38-0A9A889D3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67E4-0759-4644-855A-8E26B6E3E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EA76-472A-478C-84DA-38F54CF51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7854-C929-46B2-AF1F-E66B6CC93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C800-141F-49BB-A07C-FBA0998C9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5A89-7843-45C2-A5A5-0748210FB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26DD-AA37-40D8-84BC-CCD7448AE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E913-417D-4A64-A23D-020497958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8A5D-A857-43C1-88DC-EBE71B236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E7CE-8410-4EAB-A5C2-E92166509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7A7-EA1A-4E64-85F2-4737FF3C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F7D-DC5D-4E10-84F4-5EA57047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29E-3675-4883-8A45-AB9F2A1D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894-2ED7-4A2C-BF78-F6F86680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F0A-DD85-4C68-92BE-9667D4EE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32E-1332-46BE-9C72-8BA98267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49D-A520-41F8-BCFD-28F97A6B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A50-6ABD-4D9D-AC0B-5B7DC034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A61-1960-4FB1-B93C-2C85B84C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ED0-E9A8-4B76-A815-B023C0E1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0C0-FF9E-4F96-AD18-2D54314C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3F2-2BB2-4135-ADF5-91AEE066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E3DD-6F70-414D-861F-78C56CE12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feinitaly.com/food/img/Olive-oil-bottle-sm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odeldietplan.com/images/vitamins.gif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modeldietplan.com/images/vitamins.gif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zephyrus.co.uk/potassium.gif&amp;imgrefurl=http://www.zephyrus.co.uk/thereactivityseries.html&amp;h=589&amp;w=617&amp;sz=7&amp;hl=en&amp;start=13&amp;tbnid=Ztlb1fIIXEWQQM:&amp;tbnh=130&amp;tbnw=136&amp;prev=/images%3Fq%3Dpotassium%26gbv%3D2%26svnum%3D10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chem4kids.com/files/elements/art/012_symbol.gif&amp;imgrefurl=http://www.chem4kids.com/files/elements/012_shells.html&amp;h=225&amp;w=440&amp;sz=15&amp;hl=en&amp;start=4&amp;tbnid=EWST59EJorryMM:&amp;tbnh=65&amp;tbnw=127&amp;prev=/images%3Fq%3Dmagnesium%2Bin%2Bperiodic%2Btable%26gbv%3D2%26svnum%3D10%26hl%3De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chem4kids.com/files/elements/art/026_symbol.gif&amp;imgrefurl=http://www.chem4kids.com/files/elements/026_shells.html&amp;h=225&amp;w=440&amp;sz=14&amp;hl=en&amp;start=2&amp;tbnid=uf6S2i-6_kr51M:&amp;tbnh=65&amp;tbnw=127&amp;prev=/images%3Fq%3Diron%2Bin%2Bperiodic%2Btable%26gbv%3D2%26ndsp%3D20%26svnum%3D10%26hl%3Den%26sa%3D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www.lm.liverpool.k12.ny.us/HyperChart/periodicchart/p.c.gifs/sodium.GIF&amp;imgrefurl=http://www.lm.liverpool.k12.ny.us/HyperChart/periodicchart/sodium.html&amp;h=431&amp;w=620&amp;sz=46&amp;hl=en&amp;start=5&amp;tbnid=q3U-m0k25ZM6SM:&amp;tbnh=95&amp;tbnw=136&amp;prev=/images%3Fq%3DSodium%26gbv%3D2%26svnum%3D10%26hl%3Den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Nutrition, Digestion and Excre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 3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How Much Energy is in the Food We Eat?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AL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amount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is in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unt of heat energy needed to raise the temp. of 1 mL of water by 1 degree Cels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our food labels we s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ries (kilocalor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rie = 1000 cal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elly bean = 3 Calories = 3000 calories!  (That’s a lot of energy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ood Label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label"/>
          <p:cNvPicPr/>
          <p:nvPr/>
        </p:nvPicPr>
        <p:blipFill>
          <a:blip r:embed="rId1"/>
          <a:stretch/>
        </p:blipFill>
        <p:spPr>
          <a:xfrm>
            <a:off x="228600" y="762120"/>
            <a:ext cx="241920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label-skimmilk"/>
          <p:cNvPicPr/>
          <p:nvPr/>
        </p:nvPicPr>
        <p:blipFill>
          <a:blip r:embed="rId2"/>
          <a:stretch/>
        </p:blipFill>
        <p:spPr>
          <a:xfrm>
            <a:off x="3124080" y="1676520"/>
            <a:ext cx="2911680" cy="471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racNutLabel"/>
          <p:cNvPicPr/>
          <p:nvPr/>
        </p:nvPicPr>
        <p:blipFill>
          <a:blip r:embed="rId3"/>
          <a:stretch/>
        </p:blipFill>
        <p:spPr>
          <a:xfrm>
            <a:off x="6629400" y="428760"/>
            <a:ext cx="22766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Getting the Glucose for Cell Respiration...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risten ITC"/>
              </a:rPr>
              <a:t>The Hum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risten ITC"/>
              </a:rPr>
              <a:t>Digestive Syste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819160"/>
            <a:ext cx="83808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risten ITC"/>
              </a:rPr>
              <a:t>Anatomy</a:t>
            </a:r>
            <a:endParaRPr b="0" lang="en-US" sz="5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038480" y="4648320"/>
            <a:ext cx="9144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DigestSys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637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6172200" y="228600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943600" y="5638680"/>
            <a:ext cx="2971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nitedstreaming.com/search/assetDetail.cfm?guidAssetID=261AD126-687E-4F76-A972-A14DD33964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1.  Mouth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172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(mechanical)di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di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ivary glands release saliva which has </a:t>
            </a: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Amy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ch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mplex smaller sugars (malto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spends a short time in mout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ts left undige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mouth"/>
          <p:cNvPicPr/>
          <p:nvPr/>
        </p:nvPicPr>
        <p:blipFill>
          <a:blip r:embed="rId1"/>
          <a:stretch/>
        </p:blipFill>
        <p:spPr>
          <a:xfrm>
            <a:off x="6172200" y="1066680"/>
            <a:ext cx="274320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Amylase Activity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crac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w for 5 sec and record how it tas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continue chewing for 5 more min, an record again how it tas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nd why did the taste of the cracker change?  Write down the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Mechanical vs. Chemical Demo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egg into container and scrambl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rocess is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 scrambled egg into boiling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rocess is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2.  Esophagus &amp; Epiglottis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ophagus connects mouth to stom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Peristal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wavelike contracts force food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glot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p door” prevents food “going down the wrong pip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burn”- backflow of stomach acid into the esoph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spyncter- ring of muscle that keeps stomach closed when chu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ans7_esophagus"/>
          <p:cNvPicPr/>
          <p:nvPr/>
        </p:nvPicPr>
        <p:blipFill>
          <a:blip r:embed="rId1"/>
          <a:stretch/>
        </p:blipFill>
        <p:spPr>
          <a:xfrm>
            <a:off x="5257800" y="1219320"/>
            <a:ext cx="31575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Marble in a Tube Demo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tube is an esophagus, what does the marble repres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peristalsis mode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3.  Stomach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di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food trig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Gastric ju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Cl + muc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</a:t>
            </a: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 peps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rotein digestion be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rotei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ypept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di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rning and mix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Mixture is called Chy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stomach2"/>
          <p:cNvPicPr/>
          <p:nvPr/>
        </p:nvPicPr>
        <p:blipFill>
          <a:blip r:embed="rId1"/>
          <a:stretch/>
        </p:blipFill>
        <p:spPr>
          <a:xfrm>
            <a:off x="5105520" y="1523880"/>
            <a:ext cx="364644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ood and Nutrition 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we need f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new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NA/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 is the study of food and its effects on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Essential Nutr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Vitamins, Minerals, Fats (lipids), Proteins, Carbohydr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4. Small Intestin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digestion is completed by the time food leaves S.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ents absorbed into blood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ing to S.I. from stomach-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yloric sphin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sections- </a:t>
            </a: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duodenum, jejunum, ile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7 meters lo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Illustration of the regions of the small intestine"/>
          <p:cNvPicPr/>
          <p:nvPr/>
        </p:nvPicPr>
        <p:blipFill>
          <a:blip r:embed="rId1"/>
          <a:stretch/>
        </p:blipFill>
        <p:spPr>
          <a:xfrm>
            <a:off x="5105520" y="1905120"/>
            <a:ext cx="403848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Secretions 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elp digest food the liver and gall bladder and the pancreas secrete various enzymes and fluids into the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ver and Gall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il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- breaks fats into smaller droplets (like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  deterg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ver makes it, gall bladder stores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Def-17"/>
          <p:cNvPicPr/>
          <p:nvPr/>
        </p:nvPicPr>
        <p:blipFill>
          <a:blip r:embed="rId1"/>
          <a:stretch/>
        </p:blipFill>
        <p:spPr>
          <a:xfrm>
            <a:off x="541008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Secretions from the Pancreas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creas adds </a:t>
            </a: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pancreatic ju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fts pH from acidic to basic –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Trypsin (breaks down prote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ypeptide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mino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Lipases (break down fa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pid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atty acid + gly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Amylase (breaks down st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b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lt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pancreas"/>
          <p:cNvPicPr/>
          <p:nvPr/>
        </p:nvPicPr>
        <p:blipFill>
          <a:blip r:embed="rId1"/>
          <a:stretch/>
        </p:blipFill>
        <p:spPr>
          <a:xfrm>
            <a:off x="5586480" y="2666880"/>
            <a:ext cx="3459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Secretions from th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 Small Intestine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altase, sucrase, lact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 down remaining disaccharides into monosaccha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Peptid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breakdown of any remaining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Absorption of nutrient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Intestine has increased surfac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lar f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l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vil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youtube.com/watch?v=zX4hdOPgn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villi"/>
          <p:cNvPicPr/>
          <p:nvPr/>
        </p:nvPicPr>
        <p:blipFill>
          <a:blip r:embed="rId1"/>
          <a:stretch/>
        </p:blipFill>
        <p:spPr>
          <a:xfrm>
            <a:off x="3657600" y="2286000"/>
            <a:ext cx="43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villi"/>
          <p:cNvPicPr/>
          <p:nvPr/>
        </p:nvPicPr>
        <p:blipFill>
          <a:blip r:embed="rId2"/>
          <a:stretch/>
        </p:blipFill>
        <p:spPr>
          <a:xfrm>
            <a:off x="6858000" y="4419720"/>
            <a:ext cx="22860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5.  Large Intestin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ain function- absorption of wa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 that remains is called F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 in the colon feed on waste and produce vitamin K- symbiotic relatio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arrh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ue to illness not enough water is removed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stip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oo much water is remo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large_intestine"/>
          <p:cNvPicPr/>
          <p:nvPr/>
        </p:nvPicPr>
        <p:blipFill>
          <a:blip r:embed="rId1"/>
          <a:stretch/>
        </p:blipFill>
        <p:spPr>
          <a:xfrm>
            <a:off x="4724280" y="1681200"/>
            <a:ext cx="434340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6.  Rectum and Anu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te ex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 rot="21110400">
            <a:off x="2590560" y="3276720"/>
            <a:ext cx="4267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672000"/>
                </a:gradFill>
                <a:latin typeface="Impact"/>
              </a:rPr>
              <a:t>THE EN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672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38-3 Excretory System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waste leaves the body through the anus (end of col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liquid was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 liquid absorbed from small and large intestine enters the blood 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n brought to the kidneys where the liquid is filtered.  This is the excretory syst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Excre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metabolic wastes are eli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s 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kidn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waste products from the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 blood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 water content of blood (blood volu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pic>
        <p:nvPicPr>
          <p:cNvPr id="134" name="Picture 4" descr="Kidney: Illustration"/>
          <p:cNvPicPr/>
          <p:nvPr/>
        </p:nvPicPr>
        <p:blipFill>
          <a:blip r:embed="rId1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Kristen ITC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cell in the body needs water to complete many of the body’s processes and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loss causes problems in all the bod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water_drop"/>
          <p:cNvPicPr/>
          <p:nvPr/>
        </p:nvPicPr>
        <p:blipFill>
          <a:blip r:embed="rId1"/>
          <a:stretch/>
        </p:blipFill>
        <p:spPr>
          <a:xfrm>
            <a:off x="5029200" y="4373640"/>
            <a:ext cx="373392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The Nephr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al units of the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1 million nephrons in each kidne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nephron is in the renal cort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 of Henle is in medu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kidney_function1"/>
          <p:cNvPicPr/>
          <p:nvPr/>
        </p:nvPicPr>
        <p:blipFill>
          <a:blip r:embed="rId1"/>
          <a:stretch/>
        </p:blipFill>
        <p:spPr>
          <a:xfrm>
            <a:off x="4915080" y="2133720"/>
            <a:ext cx="4228920" cy="4228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5257800" y="5638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oop of Hen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6477120" y="5715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iltra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, urea, glucose,salts, amino acids and some vitamins are filtered out of the blo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alled the filtr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protei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and platelets remain i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352320" y="2865600"/>
            <a:ext cx="5791320" cy="39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glomerulus_illustration"/>
          <p:cNvPicPr/>
          <p:nvPr/>
        </p:nvPicPr>
        <p:blipFill>
          <a:blip r:embed="rId1"/>
          <a:stretch/>
        </p:blipFill>
        <p:spPr>
          <a:xfrm>
            <a:off x="3429000" y="303840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Reabsorp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amount of the filtrate is reabsorbed back into the capillaries surrounding the Loop of Hen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ever is left in loop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Urine goe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collecting duc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ureter to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7" descr="http://www.custodiol.com/images/pageimages/3_kidney.jpg"/>
          <p:cNvPicPr/>
          <p:nvPr/>
        </p:nvPicPr>
        <p:blipFill>
          <a:blip r:embed="rId1"/>
          <a:stretch/>
        </p:blipFill>
        <p:spPr>
          <a:xfrm>
            <a:off x="5029200" y="3809880"/>
            <a:ext cx="3943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Problems with the kidney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Kidney sto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posits of calcium, salts, or magnesium crystallize and form stones, block the ur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removed, very pain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ken down until they are small enough to p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wo kidneys but we can survive with just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ialy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vailable when both kidneys f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Video of Nephron Func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youtube.com/watch?v=glu0dzK4dbU&amp;feature=re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Kristen ITC"/>
              </a:rPr>
              <a:t>Fats (Lipids)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facture cell membranes, produce hormones and stor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cc00"/>
                </a:solidFill>
                <a:latin typeface="Arial"/>
              </a:rPr>
              <a:t>Satu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ntains only single bonds (all possible hydrogens)  eg. b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cc00"/>
                </a:solidFill>
                <a:latin typeface="Arial"/>
              </a:rPr>
              <a:t>Unsatu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ntains one or more double or triple bonds eg. olive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small_stick"/>
          <p:cNvPicPr/>
          <p:nvPr/>
        </p:nvPicPr>
        <p:blipFill>
          <a:blip r:embed="rId1"/>
          <a:stretch/>
        </p:blipFill>
        <p:spPr>
          <a:xfrm>
            <a:off x="533520" y="228600"/>
            <a:ext cx="1876320" cy="94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Olive-oil-bottle-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4572000"/>
            <a:ext cx="1581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Kristen ITC"/>
              </a:rPr>
              <a:t>Protei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body with material for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parts of muscles, skin and internal org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can naturally produce 12 of 20 amino 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ther 8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us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obtained from f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ed essential amino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7" descr="19738"/>
          <p:cNvPicPr/>
          <p:nvPr/>
        </p:nvPicPr>
        <p:blipFill>
          <a:blip r:embed="rId1"/>
          <a:stretch/>
        </p:blipFill>
        <p:spPr>
          <a:xfrm>
            <a:off x="5715000" y="289548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Kristen ITC"/>
              </a:rPr>
              <a:t>Vitamin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molecules that are needed by the body to help perform important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essential vitam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fat-solu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,D,E,K)- stored in fatty tissues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water-solu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C,B)- cannot be st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vitami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228600"/>
            <a:ext cx="1981080" cy="133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vitami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28600"/>
            <a:ext cx="198108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Kristen ITC"/>
              </a:rPr>
              <a:t>Mineral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rganic nutrients that the body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Ca (bones), Fe (needed for hemoglobin), Mg (normal function of nerves and musc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t in sweat, urine and other wast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7" descr="potass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029200"/>
            <a:ext cx="1295280" cy="1238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012_symbo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5486400"/>
            <a:ext cx="2133720" cy="1092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026_symbo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04920"/>
            <a:ext cx="2209680" cy="113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sodiu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228600"/>
            <a:ext cx="190512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Kristen ITC"/>
              </a:rPr>
              <a:t>Carbohydrate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source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orm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sug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st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n down into simple sugar in digestiv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ulose=</a:t>
            </a:r>
            <a:r>
              <a:rPr b="0" i="1" lang="en-US" sz="2400" spc="-1" strike="noStrike">
                <a:solidFill>
                  <a:srgbClr val="00ffff"/>
                </a:solidFill>
                <a:latin typeface="Arial"/>
              </a:rPr>
              <a:t> fib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annot be broken down, helps process food more efficient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carbohydrates2"/>
          <p:cNvPicPr/>
          <p:nvPr/>
        </p:nvPicPr>
        <p:blipFill>
          <a:blip r:embed="rId1"/>
          <a:stretch/>
        </p:blipFill>
        <p:spPr>
          <a:xfrm>
            <a:off x="6762600" y="380880"/>
            <a:ext cx="2076480" cy="306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hristmas%2520Beaded%2520fruit%2520new%25208-05"/>
          <p:cNvPicPr/>
          <p:nvPr/>
        </p:nvPicPr>
        <p:blipFill>
          <a:blip r:embed="rId2"/>
          <a:stretch/>
        </p:blipFill>
        <p:spPr>
          <a:xfrm>
            <a:off x="914400" y="4952880"/>
            <a:ext cx="2895480" cy="1609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2003-10-31--Halloween_Candy"/>
          <p:cNvPicPr/>
          <p:nvPr/>
        </p:nvPicPr>
        <p:blipFill>
          <a:blip r:embed="rId3"/>
          <a:stretch/>
        </p:blipFill>
        <p:spPr>
          <a:xfrm>
            <a:off x="5943600" y="4572000"/>
            <a:ext cx="28288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ood and Energy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contains- Carbs, Fat, Protein and Nulceic Acids   Which is our main source for energy?  Back up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s are broken down by the digestive system to the simple sugar,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cells like to use glucose for cell respiration.  As a back up fatty acids and even amino acids can be used if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0:19:57Z</dcterms:created>
  <dc:creator>Brian and Megan Gallagher</dc:creator>
  <dc:description/>
  <dc:language>en-US</dc:language>
  <cp:lastModifiedBy>Preferred Customer</cp:lastModifiedBy>
  <dcterms:modified xsi:type="dcterms:W3CDTF">2009-10-26T04:37:20Z</dcterms:modified>
  <cp:revision>25</cp:revision>
  <dc:subject/>
  <dc:title>Cell resp</dc:title>
</cp:coreProperties>
</file>